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2.wmf" ContentType="image/x-wmf"/>
  <Override PartName="/ppt/media/image20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jpeg" ContentType="image/jpeg"/>
  <Override PartName="/ppt/media/image41.jpeg" ContentType="image/jpeg"/>
  <Override PartName="/ppt/media/image1.jpeg" ContentType="image/jpeg"/>
  <Override PartName="/ppt/media/image25.wmf" ContentType="image/x-wmf"/>
  <Override PartName="/ppt/media/image23.jpeg" ContentType="image/jpeg"/>
  <Override PartName="/ppt/media/image2.jpeg" ContentType="image/jpeg"/>
  <Override PartName="/ppt/media/image7.jpeg" ContentType="image/jpeg"/>
  <Override PartName="/ppt/media/image40.wmf" ContentType="image/x-wmf"/>
  <Override PartName="/ppt/media/image34.jpeg" ContentType="image/jpeg"/>
  <Override PartName="/ppt/media/image38.wmf" ContentType="image/x-wmf"/>
  <Override PartName="/ppt/media/image28.jpeg" ContentType="image/jpeg"/>
  <Override PartName="/ppt/media/image31.jpeg" ContentType="image/jpeg"/>
  <Override PartName="/ppt/media/image35.wmf" ContentType="image/x-wmf"/>
  <Override PartName="/ppt/media/image30.jpeg" ContentType="image/jpeg"/>
  <Override PartName="/ppt/media/image24.jpeg" ContentType="image/jpeg"/>
  <Override PartName="/ppt/media/image9.jpeg" ContentType="image/jpeg"/>
  <Override PartName="/ppt/media/image11.jpeg" ContentType="image/jpeg"/>
  <Override PartName="/ppt/media/image42.wmf" ContentType="image/x-wmf"/>
  <Override PartName="/ppt/media/image43.png" ContentType="image/png"/>
  <Override PartName="/ppt/media/image36.wmf" ContentType="image/x-wmf"/>
  <Override PartName="/ppt/media/image4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29.jpeg" ContentType="image/jpeg"/>
  <Override PartName="/ppt/media/image33.wmf" ContentType="image/x-wmf"/>
  <Override PartName="/ppt/media/image3.jpeg" ContentType="image/jpeg"/>
  <Override PartName="/ppt/media/image37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7008813" cy="9294813"/>
  <p:custShowLst>
    <p:custShow name="Resources" id="0">
      <p:sldLst>
        <p:sld r:id="rId16"/>
        <p:sld r:id="rId23"/>
      </p:sldLst>
    </p:custShow>
    <p:custShow name="5-Minute Check" id="1">
      <p:sldLst>
        <p:sld r:id="rId17"/>
        <p:sld r:id="rId18"/>
        <p:sld r:id="rId19"/>
        <p:sld r:id="rId20"/>
        <p:sld r:id="rId21"/>
        <p:sld r:id="rId22"/>
        <p:sld r:id="rId2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3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" Target="slide2.xml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" Target="slide18.xml"/><Relationship Id="rId5" Type="http://schemas.openxmlformats.org/officeDocument/2006/relationships/image" Target="../media/image10.jpeg"/><Relationship Id="rId6" Type="http://schemas.openxmlformats.org/officeDocument/2006/relationships/image" Target="../media/image5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4.png"/><Relationship Id="rId6" Type="http://schemas.openxmlformats.org/officeDocument/2006/relationships/slide" Target="slide18.xml"/><Relationship Id="rId7" Type="http://schemas.openxmlformats.org/officeDocument/2006/relationships/image" Target="../media/image10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P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LMart" descr=""/>
          <p:cNvPicPr/>
          <p:nvPr/>
        </p:nvPicPr>
        <p:blipFill>
          <a:blip r:embed="rId3"/>
          <a:stretch/>
        </p:blipFill>
        <p:spPr>
          <a:xfrm>
            <a:off x="1117440" y="841320"/>
            <a:ext cx="2349720" cy="5112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105760" y="6465960"/>
            <a:ext cx="461880" cy="369720"/>
          </a:xfrm>
          <a:prstGeom prst="rect">
            <a:avLst/>
          </a:prstGeom>
          <a:ln w="0">
            <a:noFill/>
          </a:ln>
        </p:spPr>
      </p:pic>
      <p:pic>
        <p:nvPicPr>
          <p:cNvPr id="4" name="AP2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33240"/>
          </a:xfrm>
          <a:prstGeom prst="rect">
            <a:avLst/>
          </a:prstGeom>
          <a:ln w="0">
            <a:noFill/>
          </a:ln>
        </p:spPr>
      </p:pic>
      <p:pic>
        <p:nvPicPr>
          <p:cNvPr id="5" name="exit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6593040" y="6491160"/>
            <a:ext cx="430200" cy="344520"/>
          </a:xfrm>
          <a:prstGeom prst="rect">
            <a:avLst/>
          </a:prstGeom>
          <a:ln w="0">
            <a:noFill/>
          </a:ln>
        </p:spPr>
      </p:pic>
      <p:pic>
        <p:nvPicPr>
          <p:cNvPr id="6" name="online" descr=""/>
          <p:cNvPicPr/>
          <p:nvPr/>
        </p:nvPicPr>
        <p:blipFill>
          <a:blip r:embed="rId7"/>
          <a:stretch/>
        </p:blipFill>
        <p:spPr>
          <a:xfrm>
            <a:off x="7135920" y="6504120"/>
            <a:ext cx="609480" cy="334800"/>
          </a:xfrm>
          <a:prstGeom prst="rect">
            <a:avLst/>
          </a:prstGeom>
          <a:ln w="0">
            <a:noFill/>
          </a:ln>
        </p:spPr>
      </p:pic>
      <p:pic>
        <p:nvPicPr>
          <p:cNvPr id="7" name="resource" descr=""/>
          <p:cNvPicPr/>
          <p:nvPr/>
        </p:nvPicPr>
        <p:blipFill>
          <a:blip r:embed="rId8"/>
          <a:stretch/>
        </p:blipFill>
        <p:spPr>
          <a:xfrm>
            <a:off x="7783560" y="6465960"/>
            <a:ext cx="914400" cy="3650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P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AP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33240"/>
          </a:xfrm>
          <a:prstGeom prst="rect">
            <a:avLst/>
          </a:prstGeom>
          <a:ln w="0">
            <a:noFill/>
          </a:ln>
        </p:spPr>
      </p:pic>
      <p:pic>
        <p:nvPicPr>
          <p:cNvPr id="48" name="exit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5124600" y="6491160"/>
            <a:ext cx="430200" cy="344520"/>
          </a:xfrm>
          <a:prstGeom prst="rect">
            <a:avLst/>
          </a:prstGeom>
          <a:ln w="0">
            <a:noFill/>
          </a:ln>
        </p:spPr>
      </p:pic>
      <p:pic>
        <p:nvPicPr>
          <p:cNvPr id="49" name="online" descr=""/>
          <p:cNvPicPr/>
          <p:nvPr/>
        </p:nvPicPr>
        <p:blipFill>
          <a:blip r:embed="rId5"/>
          <a:stretch/>
        </p:blipFill>
        <p:spPr>
          <a:xfrm>
            <a:off x="5667480" y="6504120"/>
            <a:ext cx="609480" cy="334800"/>
          </a:xfrm>
          <a:prstGeom prst="rect">
            <a:avLst/>
          </a:prstGeom>
          <a:ln w="0">
            <a:noFill/>
          </a:ln>
        </p:spPr>
      </p:pic>
      <p:pic>
        <p:nvPicPr>
          <p:cNvPr id="50" name="resource" descr=""/>
          <p:cNvPicPr/>
          <p:nvPr/>
        </p:nvPicPr>
        <p:blipFill>
          <a:blip r:embed="rId6"/>
          <a:stretch/>
        </p:blipFill>
        <p:spPr>
          <a:xfrm>
            <a:off x="6315120" y="6465960"/>
            <a:ext cx="914400" cy="365040"/>
          </a:xfrm>
          <a:prstGeom prst="rect">
            <a:avLst/>
          </a:prstGeom>
          <a:ln w="0">
            <a:noFill/>
          </a:ln>
        </p:spPr>
      </p:pic>
      <p:pic>
        <p:nvPicPr>
          <p:cNvPr id="51" name="Home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238880" y="6465960"/>
            <a:ext cx="462240" cy="369720"/>
          </a:xfrm>
          <a:prstGeom prst="rect">
            <a:avLst/>
          </a:prstGeom>
          <a:ln w="0">
            <a:noFill/>
          </a:ln>
        </p:spPr>
      </p:pic>
      <p:pic>
        <p:nvPicPr>
          <p:cNvPr id="52" name="go_back" descr="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7709040" y="6465960"/>
            <a:ext cx="461880" cy="369720"/>
          </a:xfrm>
          <a:prstGeom prst="rect">
            <a:avLst/>
          </a:prstGeom>
          <a:ln w="0">
            <a:noFill/>
          </a:ln>
        </p:spPr>
      </p:pic>
      <p:pic>
        <p:nvPicPr>
          <p:cNvPr id="53" name="go_next" descr="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8180280" y="6465960"/>
            <a:ext cx="462240" cy="3682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AP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AP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33240"/>
          </a:xfrm>
          <a:prstGeom prst="rect">
            <a:avLst/>
          </a:prstGeom>
          <a:ln w="0">
            <a:noFill/>
          </a:ln>
        </p:spPr>
      </p:pic>
      <p:pic>
        <p:nvPicPr>
          <p:cNvPr id="94" name="double_back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80280" y="6465960"/>
            <a:ext cx="462240" cy="368280"/>
          </a:xfrm>
          <a:prstGeom prst="rect">
            <a:avLst/>
          </a:prstGeom>
          <a:ln w="0">
            <a:noFill/>
          </a:ln>
        </p:spPr>
      </p:pic>
      <p:pic>
        <p:nvPicPr>
          <p:cNvPr id="95" name="online" descr=""/>
          <p:cNvPicPr/>
          <p:nvPr/>
        </p:nvPicPr>
        <p:blipFill>
          <a:blip r:embed="rId6"/>
          <a:stretch/>
        </p:blipFill>
        <p:spPr>
          <a:xfrm>
            <a:off x="7458120" y="6485040"/>
            <a:ext cx="609480" cy="334800"/>
          </a:xfrm>
          <a:prstGeom prst="rect">
            <a:avLst/>
          </a:prstGeom>
          <a:ln w="0">
            <a:noFill/>
          </a:ln>
        </p:spPr>
      </p:pic>
      <p:pic>
        <p:nvPicPr>
          <p:cNvPr id="96" name="resource_menu_icon" descr=""/>
          <p:cNvPicPr/>
          <p:nvPr/>
        </p:nvPicPr>
        <p:blipFill>
          <a:blip r:embed="rId7"/>
          <a:stretch/>
        </p:blipFill>
        <p:spPr>
          <a:xfrm>
            <a:off x="1219320" y="609480"/>
            <a:ext cx="4419360" cy="5461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AP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5mincheck_art" descr=""/>
          <p:cNvPicPr/>
          <p:nvPr/>
        </p:nvPicPr>
        <p:blipFill>
          <a:blip r:embed="rId3"/>
          <a:srcRect l="0" t="5830" r="0" b="0"/>
          <a:stretch/>
        </p:blipFill>
        <p:spPr>
          <a:xfrm>
            <a:off x="552600" y="665280"/>
            <a:ext cx="3657600" cy="563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7359480" y="5802480"/>
            <a:ext cx="1346400" cy="414000"/>
          </a:xfrm>
          <a:prstGeom prst="rect">
            <a:avLst/>
          </a:prstGeom>
          <a:ln w="0">
            <a:noFill/>
          </a:ln>
        </p:spPr>
      </p:pic>
      <p:pic>
        <p:nvPicPr>
          <p:cNvPr id="138" name="AP2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33240"/>
          </a:xfrm>
          <a:prstGeom prst="rect">
            <a:avLst/>
          </a:prstGeom>
          <a:ln w="0">
            <a:noFill/>
          </a:ln>
        </p:spPr>
      </p:pic>
      <p:pic>
        <p:nvPicPr>
          <p:cNvPr id="139" name="double_back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238880" y="6465960"/>
            <a:ext cx="462240" cy="368280"/>
          </a:xfrm>
          <a:prstGeom prst="rect">
            <a:avLst/>
          </a:prstGeom>
          <a:ln w="0">
            <a:noFill/>
          </a:ln>
        </p:spPr>
      </p:pic>
      <p:pic>
        <p:nvPicPr>
          <p:cNvPr id="140" name="go_back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709040" y="6465960"/>
            <a:ext cx="461880" cy="369720"/>
          </a:xfrm>
          <a:prstGeom prst="rect">
            <a:avLst/>
          </a:prstGeom>
          <a:ln w="0">
            <a:noFill/>
          </a:ln>
        </p:spPr>
      </p:pic>
      <p:pic>
        <p:nvPicPr>
          <p:cNvPr id="141" name="go_next" descr="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8180280" y="6465960"/>
            <a:ext cx="462240" cy="3682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" Target="slide2.xml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hyperlink" Target="file:///09Math_G6_Image%20Bank.ppt" TargetMode="External"/><Relationship Id="rId5" Type="http://schemas.openxmlformats.org/officeDocument/2006/relationships/image" Target="../media/image13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0.jpeg"/><Relationship Id="rId11" Type="http://schemas.openxmlformats.org/officeDocument/2006/relationships/hyperlink" Target="file:///M1_05/M1_05_dev_100.exe" TargetMode="External"/><Relationship Id="rId12" Type="http://schemas.openxmlformats.org/officeDocument/2006/relationships/hyperlink" Target="file:///MAC1CIM3_5.swf" TargetMode="External"/><Relationship Id="rId13" Type="http://schemas.openxmlformats.org/officeDocument/2006/relationships/image" Target="../media/image32.jpeg"/><Relationship Id="rId1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18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jpeg"/><Relationship Id="rId4" Type="http://schemas.openxmlformats.org/officeDocument/2006/relationships/image" Target="../media/image18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23.jpeg"/><Relationship Id="rId4" Type="http://schemas.openxmlformats.org/officeDocument/2006/relationships/image" Target="../media/image1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ash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553920" y="10666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of the Les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end_of_scree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the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AP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3240"/>
          </a:xfrm>
          <a:prstGeom prst="rect">
            <a:avLst/>
          </a:prstGeom>
          <a:ln w="0">
            <a:noFill/>
          </a:ln>
        </p:spPr>
      </p:pic>
      <p:pic>
        <p:nvPicPr>
          <p:cNvPr id="262" name="exit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5124600" y="6491160"/>
            <a:ext cx="430200" cy="344520"/>
          </a:xfrm>
          <a:prstGeom prst="rect">
            <a:avLst/>
          </a:prstGeom>
          <a:ln w="0">
            <a:noFill/>
          </a:ln>
        </p:spPr>
      </p:pic>
      <p:pic>
        <p:nvPicPr>
          <p:cNvPr id="263" name="online" descr=""/>
          <p:cNvPicPr/>
          <p:nvPr/>
        </p:nvPicPr>
        <p:blipFill>
          <a:blip r:embed="rId4"/>
          <a:stretch/>
        </p:blipFill>
        <p:spPr>
          <a:xfrm>
            <a:off x="5667480" y="6504120"/>
            <a:ext cx="609480" cy="334800"/>
          </a:xfrm>
          <a:prstGeom prst="rect">
            <a:avLst/>
          </a:prstGeom>
          <a:ln w="0">
            <a:noFill/>
          </a:ln>
        </p:spPr>
      </p:pic>
      <p:pic>
        <p:nvPicPr>
          <p:cNvPr id="264" name="resource" descr=""/>
          <p:cNvPicPr/>
          <p:nvPr/>
        </p:nvPicPr>
        <p:blipFill>
          <a:blip r:embed="rId5"/>
          <a:stretch/>
        </p:blipFill>
        <p:spPr>
          <a:xfrm>
            <a:off x="6315120" y="6465960"/>
            <a:ext cx="914400" cy="365040"/>
          </a:xfrm>
          <a:prstGeom prst="rect">
            <a:avLst/>
          </a:prstGeom>
          <a:ln w="0">
            <a:noFill/>
          </a:ln>
        </p:spPr>
      </p:pic>
      <p:pic>
        <p:nvPicPr>
          <p:cNvPr id="265" name="Home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238880" y="6465960"/>
            <a:ext cx="462240" cy="369720"/>
          </a:xfrm>
          <a:prstGeom prst="rect">
            <a:avLst/>
          </a:prstGeom>
          <a:ln w="0">
            <a:noFill/>
          </a:ln>
        </p:spPr>
      </p:pic>
      <p:pic>
        <p:nvPicPr>
          <p:cNvPr id="266" name="go_back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709040" y="6465960"/>
            <a:ext cx="461880" cy="369720"/>
          </a:xfrm>
          <a:prstGeom prst="rect">
            <a:avLst/>
          </a:prstGeom>
          <a:ln w="0">
            <a:noFill/>
          </a:ln>
        </p:spPr>
      </p:pic>
      <p:pic>
        <p:nvPicPr>
          <p:cNvPr id="267" name="go_next" descr=""/>
          <p:cNvPicPr/>
          <p:nvPr/>
        </p:nvPicPr>
        <p:blipFill>
          <a:blip r:embed="rId9"/>
          <a:stretch/>
        </p:blipFill>
        <p:spPr>
          <a:xfrm>
            <a:off x="8180280" y="6465960"/>
            <a:ext cx="462240" cy="368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004920" y="1422360"/>
            <a:ext cx="531216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01b18"/>
                </a:solidFill>
                <a:uFillTx/>
                <a:latin typeface="Arial"/>
                <a:hlinkClick r:id="rId1" action="ppaction://hlinksldjump"/>
              </a:rPr>
              <a:t>Five-Minute </a:t>
            </a:r>
            <a:r>
              <a:rPr b="0" lang="en-US" sz="2400" spc="-1" strike="noStrike" u="sng">
                <a:solidFill>
                  <a:srgbClr val="e01b18"/>
                </a:solidFill>
                <a:uFillTx/>
                <a:latin typeface="Arial"/>
                <a:hlinkClick r:id="rId2" action="ppaction://hlinksldjump"/>
              </a:rPr>
              <a:t>ChecK</a:t>
            </a:r>
            <a:r>
              <a:rPr b="0" lang="en-US" sz="2400" spc="-1" strike="noStrike" u="sng">
                <a:solidFill>
                  <a:srgbClr val="e01b18"/>
                </a:solidFill>
                <a:uFillTx/>
                <a:latin typeface="Arial"/>
                <a:hlinkClick r:id="rId3" action="ppaction://hlinksldjump"/>
              </a:rPr>
              <a:t> (over Lesson 3–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01b18"/>
                </a:solidFill>
                <a:uFillTx/>
                <a:latin typeface="Arial"/>
                <a:hlinkClick r:id="rId4"/>
              </a:rPr>
              <a:t>Image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1476360" y="1378080"/>
            <a:ext cx="1432080" cy="441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6"/>
          <a:stretch/>
        </p:blipFill>
        <p:spPr>
          <a:xfrm>
            <a:off x="2108160" y="2610000"/>
            <a:ext cx="803160" cy="4982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7"/>
          <a:stretch/>
        </p:blipFill>
        <p:spPr>
          <a:xfrm>
            <a:off x="2108160" y="2000160"/>
            <a:ext cx="803160" cy="4827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8"/>
          <a:stretch/>
        </p:blipFill>
        <p:spPr>
          <a:xfrm>
            <a:off x="1057320" y="4229280"/>
            <a:ext cx="1892160" cy="5047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838080" y="3772080"/>
            <a:ext cx="7467840" cy="2485800"/>
          </a:xfrm>
          <a:prstGeom prst="rect">
            <a:avLst/>
          </a:prstGeom>
          <a:noFill/>
          <a:ln w="25560">
            <a:solidFill>
              <a:srgbClr val="005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9"/>
          <a:stretch/>
        </p:blipFill>
        <p:spPr>
          <a:xfrm>
            <a:off x="1068480" y="3429000"/>
            <a:ext cx="1884240" cy="6937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3009960" y="428616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ing Dec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1057320" y="4915080"/>
            <a:ext cx="1892160" cy="5047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009960" y="4971960"/>
            <a:ext cx="51814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11"/>
              </a:rPr>
              <a:t>Dividing Dec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12"/>
              </a:rPr>
              <a:t>Modeling Dec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3"/>
          <a:stretch/>
        </p:blipFill>
        <p:spPr>
          <a:xfrm>
            <a:off x="1298520" y="5557680"/>
            <a:ext cx="1650960" cy="395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7162560" y="4495680"/>
            <a:ext cx="14475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TPChart"/>
          <p:cNvGraphicFramePr/>
          <p:nvPr/>
        </p:nvGraphicFramePr>
        <p:xfrm>
          <a:off x="5715000" y="2438280"/>
          <a:ext cx="3130560" cy="35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438280"/>
                    <a:ext cx="3130560" cy="35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Minute Check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4920" y="4481640"/>
            <a:ext cx="405000" cy="40464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e01b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PQuestion"/>
          <p:cNvSpPr/>
          <p:nvPr/>
        </p:nvSpPr>
        <p:spPr>
          <a:xfrm>
            <a:off x="533520" y="1484280"/>
            <a:ext cx="82296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Write 12.004 in word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044960" y="752400"/>
            <a:ext cx="2355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(over Lesson 3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420840" y="14954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8" name="TPAnswers"/>
          <p:cNvSpPr/>
          <p:nvPr/>
        </p:nvSpPr>
        <p:spPr>
          <a:xfrm>
            <a:off x="895320" y="2211480"/>
            <a:ext cx="76960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2000"/>
          </a:bodyPr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elve and fou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elve and four tenth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elve and four hundredth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elve and four thousand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dead_back" descr=""/>
          <p:cNvPicPr/>
          <p:nvPr/>
        </p:nvPicPr>
        <p:blipFill>
          <a:blip r:embed="rId4"/>
          <a:stretch/>
        </p:blipFill>
        <p:spPr>
          <a:xfrm>
            <a:off x="7709040" y="6465960"/>
            <a:ext cx="46188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7162560" y="4495680"/>
            <a:ext cx="14475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TPChart"/>
          <p:cNvGraphicFramePr/>
          <p:nvPr/>
        </p:nvGraphicFramePr>
        <p:xfrm>
          <a:off x="5715000" y="2438280"/>
          <a:ext cx="3130560" cy="35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438280"/>
                    <a:ext cx="3130560" cy="35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Minute Check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34920" y="3719520"/>
            <a:ext cx="405000" cy="40464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e01b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PQuestion"/>
          <p:cNvSpPr/>
          <p:nvPr/>
        </p:nvSpPr>
        <p:spPr>
          <a:xfrm>
            <a:off x="533520" y="1484280"/>
            <a:ext cx="82296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Write 8.37 in word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420840" y="14954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97" name="TPAnswers"/>
          <p:cNvSpPr/>
          <p:nvPr/>
        </p:nvSpPr>
        <p:spPr>
          <a:xfrm>
            <a:off x="895320" y="2211480"/>
            <a:ext cx="53532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2000"/>
          </a:bodyPr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ght and thirty-sev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ght and thirty-seven tenth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ght and thirty-seven hundredth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ght and thirty-seven thousand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044960" y="752400"/>
            <a:ext cx="2355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(over Lesson 3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7162560" y="4495680"/>
            <a:ext cx="14475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TPChart"/>
          <p:cNvGraphicFramePr/>
          <p:nvPr/>
        </p:nvGraphicFramePr>
        <p:xfrm>
          <a:off x="5715000" y="2438280"/>
          <a:ext cx="3130560" cy="35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438280"/>
                    <a:ext cx="3130560" cy="35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Minute Check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22320" y="2562120"/>
            <a:ext cx="405000" cy="40500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e01b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PQuestion"/>
          <p:cNvSpPr/>
          <p:nvPr/>
        </p:nvSpPr>
        <p:spPr>
          <a:xfrm>
            <a:off x="533520" y="1484280"/>
            <a:ext cx="82296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Write forty-eight thousandths in standard form and in expanded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PAnswers"/>
          <p:cNvSpPr/>
          <p:nvPr/>
        </p:nvSpPr>
        <p:spPr>
          <a:xfrm>
            <a:off x="895320" y="2517840"/>
            <a:ext cx="76960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2000"/>
          </a:bodyPr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048; (4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.01) + (8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.001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.008; (4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0) + (8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.001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0048; (4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.001) + (8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.0001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 48; (4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.1) + (8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.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420840" y="14954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4044960" y="752400"/>
            <a:ext cx="2355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(over Lesson 3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7162560" y="4495680"/>
            <a:ext cx="14475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TPChart"/>
          <p:cNvGraphicFramePr/>
          <p:nvPr/>
        </p:nvGraphicFramePr>
        <p:xfrm>
          <a:off x="6781680" y="2438280"/>
          <a:ext cx="206388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438280"/>
                    <a:ext cx="20638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Minute Check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12960" y="3643200"/>
            <a:ext cx="404640" cy="40500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e01b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PQuestion"/>
          <p:cNvSpPr/>
          <p:nvPr/>
        </p:nvSpPr>
        <p:spPr>
          <a:xfrm>
            <a:off x="533520" y="1484280"/>
            <a:ext cx="82296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Write fourteen and five hundred six thousandths in standard form and expanded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420840" y="14954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044960" y="752400"/>
            <a:ext cx="2355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(over Lesson 3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PAnswers"/>
          <p:cNvSpPr/>
          <p:nvPr/>
        </p:nvSpPr>
        <p:spPr>
          <a:xfrm>
            <a:off x="914400" y="2743200"/>
            <a:ext cx="6743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0000"/>
          </a:bodyPr>
          <a:p>
            <a:pPr marL="53280" indent="-532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,500.006; (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0,000) +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4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4,000) + (5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00) + (6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.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280" indent="-532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.506; (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0) + (4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) +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5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.1) + (6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.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280" indent="-532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.0506; (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0) + (4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) +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5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.01) + (6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280" indent="-532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14506; (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.1) + (4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.01) +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5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.001) + (6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.0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162560" y="4495680"/>
            <a:ext cx="14475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TPChart"/>
          <p:cNvGraphicFramePr/>
          <p:nvPr/>
        </p:nvGraphicFramePr>
        <p:xfrm>
          <a:off x="5715000" y="2438280"/>
          <a:ext cx="3130560" cy="35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438280"/>
                    <a:ext cx="3130560" cy="35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Minute Check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84160" y="4395960"/>
            <a:ext cx="405000" cy="40464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e01b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PQuestion"/>
          <p:cNvSpPr/>
          <p:nvPr/>
        </p:nvSpPr>
        <p:spPr>
          <a:xfrm>
            <a:off x="533520" y="1484280"/>
            <a:ext cx="82296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Daniel purchased a book for seven dollars and eighty-two cents. Write this amount in standard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420840" y="14954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24" name="TPAnswers"/>
          <p:cNvSpPr/>
          <p:nvPr/>
        </p:nvSpPr>
        <p:spPr>
          <a:xfrm>
            <a:off x="857160" y="2871720"/>
            <a:ext cx="2816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2000"/>
          </a:bodyPr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782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82.7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7.82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0.7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044960" y="752400"/>
            <a:ext cx="2355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(over Lesson 3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5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7162560" y="4495680"/>
            <a:ext cx="14475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TPChart"/>
          <p:cNvGraphicFramePr/>
          <p:nvPr/>
        </p:nvGraphicFramePr>
        <p:xfrm>
          <a:off x="5715000" y="2438280"/>
          <a:ext cx="3130560" cy="35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438280"/>
                    <a:ext cx="3130560" cy="35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Minute Check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604800" y="1295280"/>
            <a:ext cx="2541600" cy="2476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884160" y="3933720"/>
            <a:ext cx="405000" cy="40500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e01b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PQuestion"/>
          <p:cNvSpPr/>
          <p:nvPr/>
        </p:nvSpPr>
        <p:spPr>
          <a:xfrm>
            <a:off x="533520" y="1789200"/>
            <a:ext cx="8229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tabLst>
                <a:tab algn="l" pos="0"/>
                <a:tab algn="l" pos="245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Julia has sapphire earrings that are eight hundredths of a karat in size. Which decimal represents eight hundredth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PAnswers"/>
          <p:cNvSpPr/>
          <p:nvPr/>
        </p:nvSpPr>
        <p:spPr>
          <a:xfrm>
            <a:off x="857160" y="3176640"/>
            <a:ext cx="25718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2000"/>
          </a:bodyPr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8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08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008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0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4"/>
          <a:stretch/>
        </p:blipFill>
        <p:spPr>
          <a:xfrm>
            <a:off x="420840" y="180036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4044960" y="752400"/>
            <a:ext cx="2355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(over Lesson 3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dead_forward" descr=""/>
          <p:cNvPicPr/>
          <p:nvPr/>
        </p:nvPicPr>
        <p:blipFill>
          <a:blip r:embed="rId5"/>
          <a:stretch/>
        </p:blipFill>
        <p:spPr>
          <a:xfrm>
            <a:off x="8180280" y="6465960"/>
            <a:ext cx="46224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5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Custom Sh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essonmenutext"/>
          <p:cNvSpPr/>
          <p:nvPr/>
        </p:nvSpPr>
        <p:spPr>
          <a:xfrm>
            <a:off x="1066680" y="1494000"/>
            <a:ext cx="7583760" cy="37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01b18"/>
                </a:solidFill>
                <a:uFillTx/>
                <a:latin typeface="Arial"/>
                <a:hlinkClick r:id="rId1" action="ppaction://hlinksldjump"/>
              </a:rPr>
              <a:t>Five-Minute Check (over Lesson 3–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01b18"/>
                </a:solidFill>
                <a:uFillTx/>
                <a:latin typeface="Arial"/>
                <a:hlinkClick r:id="rId2" action="ppaction://hlinksldjump"/>
              </a:rPr>
              <a:t>Main Idea and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01b18"/>
                </a:solidFill>
                <a:uFillTx/>
                <a:latin typeface="Arial"/>
                <a:hlinkClick r:id="rId3" action="ppaction://hlinksldjump"/>
              </a:rPr>
              <a:t>Example 1:	Compare Dec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</a:rPr>
              <a:t>Example 2:</a:t>
            </a:r>
            <a:r>
              <a:rPr b="1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01b22"/>
                </a:solidFill>
                <a:latin typeface="Arial"/>
              </a:rPr>
              <a:t>Order Dec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greenback" descr=""/>
          <p:cNvPicPr/>
          <p:nvPr/>
        </p:nvPicPr>
        <p:blipFill>
          <a:blip r:embed="rId1"/>
          <a:stretch/>
        </p:blipFill>
        <p:spPr>
          <a:xfrm>
            <a:off x="565200" y="733320"/>
            <a:ext cx="8001000" cy="54849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Idea/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56960" y="1941120"/>
            <a:ext cx="755316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and order dec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57320" y="3592440"/>
            <a:ext cx="7705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57320" y="4075200"/>
            <a:ext cx="7705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dec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Main_idea" descr=""/>
          <p:cNvPicPr/>
          <p:nvPr/>
        </p:nvPicPr>
        <p:blipFill>
          <a:blip r:embed="rId2"/>
          <a:stretch/>
        </p:blipFill>
        <p:spPr>
          <a:xfrm>
            <a:off x="1100160" y="1284120"/>
            <a:ext cx="2709720" cy="671760"/>
          </a:xfrm>
          <a:prstGeom prst="rect">
            <a:avLst/>
          </a:prstGeom>
          <a:ln w="0">
            <a:noFill/>
          </a:ln>
        </p:spPr>
      </p:pic>
      <p:pic>
        <p:nvPicPr>
          <p:cNvPr id="189" name="Vocab" descr=""/>
          <p:cNvPicPr/>
          <p:nvPr/>
        </p:nvPicPr>
        <p:blipFill>
          <a:blip r:embed="rId3"/>
          <a:stretch/>
        </p:blipFill>
        <p:spPr>
          <a:xfrm>
            <a:off x="1100160" y="2867040"/>
            <a:ext cx="2709720" cy="671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160" y="1493640"/>
            <a:ext cx="8381880" cy="14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01b22"/>
                </a:solidFill>
                <a:latin typeface="Arial"/>
              </a:rPr>
              <a:t>BASEBALL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 The table below lists the final winning percents for several American League baseball teams in a recent year. Use &gt; or &lt; to compare New York’s percent with Cleveland’s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6680" y="704880"/>
            <a:ext cx="503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</a:rPr>
              <a:t>Compare Dec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20840" y="14954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12920" y="701640"/>
            <a:ext cx="2133360" cy="549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2590920" y="3162240"/>
            <a:ext cx="3933720" cy="2844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94000"/>
            <a:ext cx="822960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Method 1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lace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06680" y="704880"/>
            <a:ext cx="503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</a:rPr>
              <a:t>Compare Dec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20840" y="1495440"/>
            <a:ext cx="457200" cy="45720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2928600" y="2328840"/>
            <a:ext cx="3726360" cy="780840"/>
            <a:chOff x="2928600" y="2328840"/>
            <a:chExt cx="3726360" cy="780840"/>
          </a:xfrm>
        </p:grpSpPr>
        <p:sp>
          <p:nvSpPr>
            <p:cNvPr id="201" name=""/>
            <p:cNvSpPr/>
            <p:nvPr/>
          </p:nvSpPr>
          <p:spPr>
            <a:xfrm>
              <a:off x="4273560" y="2328840"/>
              <a:ext cx="2381400" cy="78084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28440">
              <a:solidFill>
                <a:srgbClr val="e01b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13143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irst, line up the decimal point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2928600" y="2508120"/>
              <a:ext cx="1344600" cy="0"/>
            </a:xfrm>
            <a:prstGeom prst="line">
              <a:avLst/>
            </a:prstGeom>
            <a:ln w="28440">
              <a:solidFill>
                <a:srgbClr val="e01b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38320" y="2508120"/>
              <a:ext cx="0" cy="345960"/>
            </a:xfrm>
            <a:prstGeom prst="line">
              <a:avLst/>
            </a:prstGeom>
            <a:ln w="28440">
              <a:solidFill>
                <a:srgbClr val="e01b2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234960" y="3454560"/>
            <a:ext cx="4494600" cy="1422360"/>
            <a:chOff x="3234960" y="3454560"/>
            <a:chExt cx="4494600" cy="1422360"/>
          </a:xfrm>
        </p:grpSpPr>
        <p:sp>
          <p:nvSpPr>
            <p:cNvPr id="205" name=""/>
            <p:cNvSpPr/>
            <p:nvPr/>
          </p:nvSpPr>
          <p:spPr>
            <a:xfrm>
              <a:off x="4540320" y="3454560"/>
              <a:ext cx="3189240" cy="142236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28440">
              <a:solidFill>
                <a:srgbClr val="e01b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13143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n, starting at the left, find the first place the digits differ. Compare the digit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3234960" y="4057920"/>
              <a:ext cx="1306440" cy="0"/>
            </a:xfrm>
            <a:prstGeom prst="line">
              <a:avLst/>
            </a:prstGeom>
            <a:ln w="28440">
              <a:solidFill>
                <a:srgbClr val="e01b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235320" y="3720960"/>
              <a:ext cx="0" cy="345960"/>
            </a:xfrm>
            <a:prstGeom prst="line">
              <a:avLst/>
            </a:prstGeom>
            <a:ln w="28440">
              <a:solidFill>
                <a:srgbClr val="e01b2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800280" y="2863800"/>
            <a:ext cx="29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York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9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velan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544824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4680" indent="-13701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Since 9 &gt; 6, 0.594 &gt; 0.56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00280" y="2863800"/>
            <a:ext cx="29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York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velan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12920" y="701640"/>
            <a:ext cx="2133360" cy="549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494000"/>
            <a:ext cx="822960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Method 2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number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20840" y="14954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800280" y="3692520"/>
            <a:ext cx="7734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 to the right are greater than numbers to the left. Since 0.594 is to the right of 0.562, 0.594 &gt; 0.56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510552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4680" indent="-13701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New York had the higher winning percen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12920" y="701640"/>
            <a:ext cx="2133360" cy="549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506680" y="704880"/>
            <a:ext cx="503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</a:rPr>
              <a:t>Compare Dec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971640" y="2247840"/>
            <a:ext cx="7181640" cy="1028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7162560" y="4495680"/>
            <a:ext cx="14475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TPChart"/>
          <p:cNvGraphicFramePr/>
          <p:nvPr/>
        </p:nvGraphicFramePr>
        <p:xfrm>
          <a:off x="5715000" y="3657600"/>
          <a:ext cx="2133720" cy="23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657600"/>
                    <a:ext cx="213372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82720" y="4106880"/>
            <a:ext cx="404640" cy="40464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e01b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PQuestion"/>
          <p:cNvSpPr/>
          <p:nvPr/>
        </p:nvSpPr>
        <p:spPr>
          <a:xfrm>
            <a:off x="533520" y="148428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</a:rPr>
              <a:t>EXAMS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 In Mr. Smith’s math class, 29.65% of the students earned a grade of “A” at the end of the semester. In Mrs. Dempsey’s class, 29.85% of the students earned a grade of “A” at the end of the semester. Use &gt; or &lt; to compare the percent in </a:t>
            </a:r>
            <a:br>
              <a:rPr sz="2400"/>
            </a:b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Mr. Smith’s class with the percent in Mrs. Dempsey’s cla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343080" y="711360"/>
            <a:ext cx="4038480" cy="6267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420840" y="14954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7359480" y="5802480"/>
            <a:ext cx="1346400" cy="414000"/>
          </a:xfrm>
          <a:prstGeom prst="rect">
            <a:avLst/>
          </a:prstGeom>
          <a:ln w="0">
            <a:noFill/>
          </a:ln>
        </p:spPr>
      </p:pic>
      <p:sp>
        <p:nvSpPr>
          <p:cNvPr id="229" name="TPAnswers"/>
          <p:cNvSpPr/>
          <p:nvPr/>
        </p:nvSpPr>
        <p:spPr>
          <a:xfrm>
            <a:off x="852480" y="4081320"/>
            <a:ext cx="754380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9.65% &lt; 29.85%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9.65% &gt; 29.85%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160" y="1494000"/>
            <a:ext cx="845820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Order 25, 25.1, 24.36, and 25.03 from least to grea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5499000"/>
            <a:ext cx="822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The order from least to greatest is 24.36, 25, 25.03, and 25.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06680" y="704880"/>
            <a:ext cx="503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</a:rPr>
              <a:t>Order Dec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20840" y="14954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192320" y="3581280"/>
            <a:ext cx="10364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.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048120" y="2057400"/>
            <a:ext cx="3028680" cy="1352520"/>
            <a:chOff x="3048120" y="2057400"/>
            <a:chExt cx="3028680" cy="1352520"/>
          </a:xfrm>
        </p:grpSpPr>
        <p:sp>
          <p:nvSpPr>
            <p:cNvPr id="237" name=""/>
            <p:cNvSpPr/>
            <p:nvPr/>
          </p:nvSpPr>
          <p:spPr>
            <a:xfrm>
              <a:off x="4485960" y="3029040"/>
              <a:ext cx="0" cy="380880"/>
            </a:xfrm>
            <a:prstGeom prst="line">
              <a:avLst/>
            </a:prstGeom>
            <a:ln w="28440">
              <a:solidFill>
                <a:srgbClr val="e01b2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48120" y="2057400"/>
              <a:ext cx="3028680" cy="9907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28440">
              <a:solidFill>
                <a:srgbClr val="e01b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13143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xt, annex zeros so all numbers have the same final place valu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324480" y="2057400"/>
            <a:ext cx="2133720" cy="1352520"/>
            <a:chOff x="6324480" y="2057400"/>
            <a:chExt cx="2133720" cy="1352520"/>
          </a:xfrm>
        </p:grpSpPr>
        <p:sp>
          <p:nvSpPr>
            <p:cNvPr id="240" name=""/>
            <p:cNvSpPr/>
            <p:nvPr/>
          </p:nvSpPr>
          <p:spPr>
            <a:xfrm>
              <a:off x="7391520" y="3029040"/>
              <a:ext cx="0" cy="380880"/>
            </a:xfrm>
            <a:prstGeom prst="line">
              <a:avLst/>
            </a:prstGeom>
            <a:ln w="28440">
              <a:solidFill>
                <a:srgbClr val="e01b2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324480" y="2057400"/>
              <a:ext cx="2133720" cy="9907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28440">
              <a:solidFill>
                <a:srgbClr val="e01b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13143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inally, compare and order using place valu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6888240" y="3581280"/>
            <a:ext cx="1036440" cy="18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.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990720" y="2057400"/>
            <a:ext cx="1676160" cy="1352520"/>
            <a:chOff x="990720" y="2057400"/>
            <a:chExt cx="1676160" cy="1352520"/>
          </a:xfrm>
        </p:grpSpPr>
        <p:sp>
          <p:nvSpPr>
            <p:cNvPr id="244" name=""/>
            <p:cNvSpPr/>
            <p:nvPr/>
          </p:nvSpPr>
          <p:spPr>
            <a:xfrm>
              <a:off x="1676520" y="3029040"/>
              <a:ext cx="0" cy="380880"/>
            </a:xfrm>
            <a:prstGeom prst="line">
              <a:avLst/>
            </a:prstGeom>
            <a:ln w="28440">
              <a:solidFill>
                <a:srgbClr val="e01b2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90720" y="2057400"/>
              <a:ext cx="1676160" cy="9907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28440">
              <a:solidFill>
                <a:srgbClr val="e01b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13143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irst, line up the decimal point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12920" y="701640"/>
            <a:ext cx="2133360" cy="549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876840" y="3581280"/>
            <a:ext cx="10364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.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.1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.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7162560" y="4495680"/>
            <a:ext cx="14475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TPChart"/>
          <p:cNvGraphicFramePr/>
          <p:nvPr/>
        </p:nvGraphicFramePr>
        <p:xfrm>
          <a:off x="5715000" y="2438280"/>
          <a:ext cx="3130560" cy="35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438280"/>
                    <a:ext cx="3130560" cy="35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39960" y="4757760"/>
            <a:ext cx="404640" cy="40464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e01b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PQuestion"/>
          <p:cNvSpPr/>
          <p:nvPr/>
        </p:nvSpPr>
        <p:spPr>
          <a:xfrm>
            <a:off x="533520" y="1484280"/>
            <a:ext cx="82296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Order 71, 71.04, 70.89, and 71.4 from least to grea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343080" y="711360"/>
            <a:ext cx="4038480" cy="6267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7359480" y="5802480"/>
            <a:ext cx="1346400" cy="4140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420840" y="14954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57" name="TPAnswers"/>
          <p:cNvSpPr/>
          <p:nvPr/>
        </p:nvSpPr>
        <p:spPr>
          <a:xfrm>
            <a:off x="900000" y="2495520"/>
            <a:ext cx="7696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2000"/>
          </a:bodyPr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1.4, 71.04, 71, 70.8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1.4, 71, 71.04, 70.89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.89, 71.04, 71, 71.4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.89, 71, 71.04, 7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4:31:51Z</dcterms:created>
  <dc:creator> </dc:creator>
  <dc:description/>
  <dc:language>en-US</dc:language>
  <cp:lastModifiedBy>Deborah Frederick</cp:lastModifiedBy>
  <dcterms:modified xsi:type="dcterms:W3CDTF">2008-05-09T20:20:31Z</dcterms:modified>
  <cp:revision>41</cp:revision>
  <dc:subject>Grade 6</dc:subject>
  <dc:title>Glencoe Mathematics</dc:title>
</cp:coreProperties>
</file>